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ED8-B113-4569-A41E-1BA140D1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08B1-3019-4046-AB3A-42BD4C24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258-9021-4D05-8F27-C954B152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0853-C3D5-4BC2-8111-28967F5A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C96-E9F0-43E4-81E3-BD941312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908-04EE-4675-81DB-59CD7D8C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EF2-E8AB-40F6-81FF-17064234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AC4-F212-49F3-98E1-3B2AC1D0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FFF-029B-448F-B914-6DBC788C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5FA-3364-4B2B-BEB9-A556D73F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EF5-9522-45F5-9495-426053E9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B4C-D53A-4DBD-8B4A-9AF49DA7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2457-BC5F-4973-9E92-B8439F3C5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355680" y="2076480"/>
            <a:ext cx="856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ي إله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وحي النبوة لا يكون إلا للرج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368280" y="907920"/>
            <a:ext cx="8596440" cy="116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2556000" y="3789360"/>
            <a:ext cx="6273720" cy="48276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24000" y="4437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نعمل مثل ما عملوا فيصيبنا مثل ما أصا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08"/>
          <a:stretch/>
        </p:blipFill>
        <p:spPr>
          <a:xfrm>
            <a:off x="195120" y="2708280"/>
            <a:ext cx="87537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635200" y="5089680"/>
            <a:ext cx="3873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42160" cy="47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en-US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66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نزي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عز وجل على علم وهدى وبصيرة واتباع منهج الرسول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الدعو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هج الصحيح في البدء بالدعوة إلى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دء بالتوحيد والتحذير من ال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م يبعث رسولاً من النس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رسالة من خصوصيات الرج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نظر والتأمل والتدبر في أخبار وآثار ومآل الأمم الساب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أهل الإيمان والتقوى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88880" y="907920"/>
            <a:ext cx="8467920" cy="11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250920" y="2157480"/>
            <a:ext cx="8424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2920" y="907920"/>
            <a:ext cx="8480160" cy="252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276120" y="357336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شترط في الدعوة اكتمال العلم بل يكفي ان يدعوهم بقدر علمه ولا يشترط ترك جميع المعاصي . قال ال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235080" y="4556160"/>
            <a:ext cx="8672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38:47Z</dcterms:modified>
  <cp:revision>2025</cp:revision>
  <dc:subject/>
  <dc:title>عرض تقديمي في PowerPoint</dc:title>
</cp:coreProperties>
</file>